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move the slide</a:t>
            </a:r>
            <a:endParaRPr b="0" lang="en-US" sz="4600" spc="-1" strike="noStrike">
              <a:solidFill>
                <a:srgbClr val="000000"/>
              </a:solidFill>
              <a:latin typeface="Franklin Gothic Book"/>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70D0-65DA-4F0F-AF24-E6F5F24D0037}"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a:t>
            </a:r>
            <a:endParaRPr b="0" lang="en-US" sz="1200" spc="-1" strike="noStrike">
              <a:solidFill>
                <a:srgbClr val="000000"/>
              </a:solidFill>
              <a:latin typeface="Calibri"/>
            </a:endParaRPr>
          </a:p>
        </p:txBody>
      </p:sp>
      <p:sp>
        <p:nvSpPr>
          <p:cNvPr id="64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630F-2BCA-444F-A6CD-CC86F7AFAFD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vor das eigentliche Spiel beginnen kann sind einige Vorkehrungen notwendig. So ist der erste Schritt zum Spielstart die Einteilung der Teams. Nachdem die Teams eingeteilt sind wird das Spielfeld festgelegt. Ist dies auch erfolgreich abgeschlossen, werden virtuelle Objekte am Spielfeld platziert. Danach kann das eigentliche Spiel beg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5424-CC87-4989-BA76-9B9FE040DA4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i der Einteilung der Spieler in die zwei Teams können sich die Mitspieler aussuchen welchem Team sie gerne beitreten würden. Sind alle Spieler einem Team zugeteilt, wird für jedes Team ein Chef bestimmt. Dieser hat einige besondere Möglichkeiten. Mehr dazu später.</a:t>
            </a:r>
            <a:endParaRPr b="0" lang="en-US" sz="1200" spc="-1" strike="noStrike">
              <a:solidFill>
                <a:srgbClr val="000000"/>
              </a:solidFill>
              <a:latin typeface="Calibri"/>
            </a:endParaRPr>
          </a:p>
        </p:txBody>
      </p:sp>
      <p:sp>
        <p:nvSpPr>
          <p:cNvPr id="67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1BDB-8B39-459C-B50B-34B1A6E44E3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dem die Teams eingeteilt wurden bekommen die Spieler die Aufgabe, das gewünschte Spielfeld zu bestimmen. Zu diesem Zwecke müssen sich drei ausgewählte Spieler an die Eckepunkte des zu erzeugenden Spielfeldes bewegen. Dort angekommen werden die Positionen ermittelt und somit die Grenzen des neuen Feldes festgelegt. Das generierte Spielfeld wird immer rechteckig sein, damit es gut in zwei Hälften einteilbar ist. Wie bereits erwähnt wird nach Festlegung der Grenzen bzw. der Erzeugung des Spielfeldes die gegnerische Spielhälfte vernebelt. </a:t>
            </a:r>
            <a:endParaRPr b="0" lang="en-US" sz="1200" spc="-1" strike="noStrike">
              <a:solidFill>
                <a:srgbClr val="000000"/>
              </a:solidFill>
              <a:latin typeface="Calibri"/>
            </a:endParaRPr>
          </a:p>
        </p:txBody>
      </p:sp>
      <p:sp>
        <p:nvSpPr>
          <p:cNvPr id="67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5F86-3D76-448D-AD11-FEE581466B1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chdem das Spielfeld komplett erzeugt wurde, werden die virtuellen Objekte darauf platziert. Wie bereits erwähnt, besitzen Teamchefs einige zusätzliche Rechte im Gegensatz zu normalen Spieler. So müssen sie die Flaggen für ihr Team positionieren. Das ist eine wichtige Aufgabe, um es dem Gegnern nicht einfach zu machen sie zu finden. Die Flagge wird per Touchpad am PDA gesetzt, es ist nicht notwendig sich auf die jeweilige Position zu begeben. Nach jeder Runde haben Teamchefs die Möglichkeit die Flagge neu zu platzieren. Um die Flagge herum wird es eine „sichere Zone“ geben, den sog. Flaggenradius. Er wird automatisch kreisförmig um die Flagge generi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fängnisse werden im Gegensatz zu den Flaggen automatisch am hinteren Rand der jeweiligen Spielhälfte generi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ch der Schlüssel wird wie die Gefängnisse automatisch platziert. Er befindet sich immer in der nähe der Mittellinie um keinen Team einen Vorteil zu gewäh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3DF7-30E9-479C-9C9E-1FD8E7C577A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68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C00F-A897-4CE0-9477-AF12E5B6EED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n zu den Spielregeln. Sie werden in 4 Punkte untertei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lagge erob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ieler fa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inen Punkt erzie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freien seiner Mitspieler</a:t>
            </a:r>
            <a:endParaRPr b="0" lang="en-US" sz="1200" spc="-1" strike="noStrike">
              <a:solidFill>
                <a:srgbClr val="000000"/>
              </a:solidFill>
              <a:latin typeface="Calibri"/>
            </a:endParaRPr>
          </a:p>
        </p:txBody>
      </p:sp>
      <p:sp>
        <p:nvSpPr>
          <p:cNvPr id="68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ABF0-FD96-43C2-8976-1802B0AB53E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die gegnerische Flagge erobern zu können, muss sich der Spieler in der Nähe der Flaggenposition befinden. Wie man hier erkennt, hat sich der rote Spieler die blaue Flagge geschnappt und befindet sich noch innerhalb des Flaggenradiuses. Sobald man die Flagge des Gegners geschnappt hat, verschwindet der eigene Flaggenraudius. </a:t>
            </a:r>
            <a:endParaRPr b="0" lang="en-US" sz="1200" spc="-1" strike="noStrike">
              <a:solidFill>
                <a:srgbClr val="000000"/>
              </a:solidFill>
              <a:latin typeface="Calibri"/>
            </a:endParaRPr>
          </a:p>
        </p:txBody>
      </p:sp>
      <p:sp>
        <p:nvSpPr>
          <p:cNvPr id="68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80D3-E3F2-4FE5-8E3A-11B402C9C8A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Fangen des gegnerischen Flaggenträgers ist grundsätzlich nur außerhalb der Flaggenradien möglich. Andere Spieler, ausgenommen der Flaggenträger, können nicht gefangen werden. Sollten sich beide Flaggenträger in die Quere kommen und sich gegenseitig fangen, werden beide zu Gefangene und beide Flaggen zurückgesetzt. Die Gefangenen Spieler müssen in das Gefängn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00B4-CCBB-4249-8BE4-BA06976231F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einen Punkt zu erzielen, darf nur das eigene Team die Flagge des Gegners besitzen und die eigene Flagge muss sich noch an ihrem Platz befinden. Ist der Flaggenträger am Punkt der eigenen Flagge angekommen hat er peri Klick am Display des PDAs die Möglichkeit, die Fahne abzusetzen und so einen Punkt für sein Team zu erzielen. Dies ist nur möglich, wenn sich alle eigenen Gefangenen auch wirklich im Gefängnis befinden.</a:t>
            </a:r>
            <a:endParaRPr b="0" lang="en-US" sz="1200" spc="-1" strike="noStrike">
              <a:solidFill>
                <a:srgbClr val="000000"/>
              </a:solidFill>
              <a:latin typeface="Calibri"/>
            </a:endParaRPr>
          </a:p>
        </p:txBody>
      </p:sp>
      <p:sp>
        <p:nvSpPr>
          <p:cNvPr id="69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0886-63C6-4FF6-96EA-80A85A4FDF2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ll es für den Flaggenträger einmal knapp wird, hat er die Möglichkeit die Flagge einen anderen, eigenen Mitspieler zuzuwerfen. Dies ist jedoch nur innerhalb eines gewissen Abstan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 wird nicht sofort an den anderen Spieler übertragen, sondern braucht eine bestimmte Zeit, bis sie dort ankommt. Man sieht dadurch die Flugbahn der Flagge und so ist es für einen gegnerischen Spieler möglich, die Flagge abzufangen. </a:t>
            </a:r>
            <a:endParaRPr b="0" lang="en-US" sz="1200" spc="-1" strike="noStrike">
              <a:solidFill>
                <a:srgbClr val="000000"/>
              </a:solidFill>
              <a:latin typeface="Calibri"/>
            </a:endParaRPr>
          </a:p>
        </p:txBody>
      </p:sp>
      <p:sp>
        <p:nvSpPr>
          <p:cNvPr id="69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FD0E-E248-418B-883F-664A3C7108B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a:t>
            </a:r>
            <a:endParaRPr b="0" lang="en-US" sz="1200" spc="-1" strike="noStrike">
              <a:solidFill>
                <a:srgbClr val="000000"/>
              </a:solidFill>
              <a:latin typeface="Calibri"/>
            </a:endParaRPr>
          </a:p>
        </p:txBody>
      </p:sp>
      <p:sp>
        <p:nvSpPr>
          <p:cNvPr id="64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A884-CBE8-4940-B374-A7C60DC74A2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enn sich Mitspieler des eigenen Teams im Gefängnis befinden, haben Teamkollegen die Möglichkeit ihnen das Gefängnis aufzusperren. Dazu wird ein Schlüssel benötigt . Das Aufschließen ist nur an der Gefängnistüre und am eigenen Gefängnis möglich. Wird die Türe aufgeschlossen haben die Spieler kurz Zeit sich aus dem Gefängnis zu befreien, denn der Schlüssel wird zurückgesetzt. </a:t>
            </a:r>
            <a:endParaRPr b="0" lang="en-US" sz="1200" spc="-1" strike="noStrike">
              <a:solidFill>
                <a:srgbClr val="000000"/>
              </a:solidFill>
              <a:latin typeface="Calibri"/>
            </a:endParaRPr>
          </a:p>
        </p:txBody>
      </p:sp>
      <p:sp>
        <p:nvSpPr>
          <p:cNvPr id="70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3062-8AF5-4742-A603-2111594E324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ommen wir nun zu den Spielbeginn. Bevor das Spiel starten kann, müssen sich die Spieler in ihre eigenen Hälften begeben. Dies wird durch die Koordinaten der jeweiigen Endgeräte überprüft. Nachdem das erfolgt ist, ist es für die Teamchefs möglich einen Bereitschaftscheckt durchzuführen. Haben alle Spieler beider Teams zugestimmt wird der Spielcountdown gestartet und das Spiel beginnt nach wenigen Seku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D0F5-8575-4A79-8B87-57B40A03BA0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70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DC84-EB4E-4F05-B01D-184C8E74716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Jetzt kommen wir zum Spielablau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s Spiel fängt an, die Spieler können sich nun auch in die gegnerische Hälfte vordringen und versuchen, die Flagge zu finden, sie zu erobern und Schlussendlich zur eigenen Flagge zu b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sogenannte Nebel wird beim vordringen in die gegnerische Hälfte in der Größe des Sichtradiuses verschwinden und dieser Teil ist für alle Teammitglieder sichtbar. </a:t>
            </a:r>
            <a:endParaRPr b="0" lang="en-US" sz="1200" spc="-1" strike="noStrike">
              <a:solidFill>
                <a:srgbClr val="000000"/>
              </a:solidFill>
              <a:latin typeface="Calibri"/>
            </a:endParaRPr>
          </a:p>
        </p:txBody>
      </p:sp>
      <p:sp>
        <p:nvSpPr>
          <p:cNvPr id="70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B7B6-B5C1-4022-AC8D-6834CE4F487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sieht man schön das ein Spieler sich in der Nähe der Flagge befindet. Diese kann er, wenn er nahe genug bei der Flagge steht, aufheben. Innerhalb von dem eingezeichneten Radius kann der Spieler nicht gefangen werden, solange er den Kreis nicht verlässt.</a:t>
            </a:r>
            <a:endParaRPr b="0" lang="en-US" sz="1200" spc="-1" strike="noStrike">
              <a:solidFill>
                <a:srgbClr val="000000"/>
              </a:solidFill>
              <a:latin typeface="Calibri"/>
            </a:endParaRPr>
          </a:p>
        </p:txBody>
      </p:sp>
      <p:sp>
        <p:nvSpPr>
          <p:cNvPr id="7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E774-61FD-4212-B690-D92016607A9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Spieler mit der roten Flagge versucht, die von ihm eroberte Fahne zu seiner eigenen zu bringen. Man erkennt an der roten leuchtenden Flagge am oberen Bildschirmrand, das die Flagge erobert wurde. Sobald der Spieler dann den Flaggenraduis verlässt kann er von roten Spielern gefangen werden. Schaffen die roten Spieler es nicht, so wird dem blauen Team ein Punkt gutgeschrieben.</a:t>
            </a:r>
            <a:endParaRPr b="0" lang="en-US" sz="1200" spc="-1" strike="noStrike">
              <a:solidFill>
                <a:srgbClr val="000000"/>
              </a:solidFill>
              <a:latin typeface="Calibri"/>
            </a:endParaRPr>
          </a:p>
        </p:txBody>
      </p:sp>
      <p:sp>
        <p:nvSpPr>
          <p:cNvPr id="71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94C6-A21C-4083-92C2-95D6438A71F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ollten die gegnerischen Spieler es doch schaffen, den Flaggenträger zu fangen, muss dieser ins Gefängnis. Dieser Spieler kann somit nicht mehr ins Spielgeschehen eingreifen, bevor er nicht von einem Teamkollegen befreit wird. Dieser kann es mit Hilfe eines Schlüssels sich zu dem Gefängnis begeben und es an der Tür aufsperren. Dafür hat der Spieler aber nur eine begrenzte Zeit. Sollte er es nach Ablauf der Zeit nicht bis zum Gefängnis geschafft haben, wird der Schlüssel zurückgesetzt. Wenn er es aber schafft, können alle Spieler, die sich in diesem Gefängnis befanden, wieder aktiv am Spiel teilnehmen. Nach Gebrauch wird der Schlüssel ebenfalls zurückgesetzt.</a:t>
            </a:r>
            <a:endParaRPr b="0" lang="en-US" sz="1200" spc="-1" strike="noStrike">
              <a:solidFill>
                <a:srgbClr val="000000"/>
              </a:solidFill>
              <a:latin typeface="Calibri"/>
            </a:endParaRPr>
          </a:p>
        </p:txBody>
      </p:sp>
      <p:sp>
        <p:nvSpPr>
          <p:cNvPr id="71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3770-F752-4DA9-82BC-B9733514170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ier sieht man es. Der blaue Spieler der die rote Flagge hält wurde von einem Roten Spieler gefangen. Der blaue Spieler muss sich jetzt ins Gefängnis begeben und darf nicht mehr am Spiel eingreifen. Die rote Flagge wird zurückgesetzt. Die Flagge am oberen Bildschirmrand leuchtet nicht mehr.</a:t>
            </a:r>
            <a:endParaRPr b="0" lang="en-US" sz="1200" spc="-1" strike="noStrike">
              <a:solidFill>
                <a:srgbClr val="000000"/>
              </a:solidFill>
              <a:latin typeface="Calibri"/>
            </a:endParaRPr>
          </a:p>
        </p:txBody>
      </p:sp>
      <p:sp>
        <p:nvSpPr>
          <p:cNvPr id="7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4586-D792-4D29-A958-CEE559EC1F3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un zu den technischen Abläuf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ie Clients können auf ihrem PDA ein Spiel eröffnen oder einem schon existierenden Spiel teilnehmen. Eingeklinkt wird mit Spielername und ggf. einem Passwort. Solche Daten, sowie jegliche Positionsangaben werden per Internet an den zentralen Server übertragen, der diese Informationen dann überarbeitet. Die Spielerpositionen müssen aufgrund der Genauigkeit des Spiels ca. alle 1-2 Sekunden an den Server übertragen werden. Da es sich hierbei jedoch nicht um großen Mengen von Daten handelt, sollte dies kein Problem darstellen.</a:t>
            </a:r>
            <a:endParaRPr b="0" lang="en-US" sz="1200" spc="-1" strike="noStrike">
              <a:solidFill>
                <a:srgbClr val="000000"/>
              </a:solidFill>
              <a:latin typeface="Calibri"/>
            </a:endParaRPr>
          </a:p>
        </p:txBody>
      </p:sp>
      <p:sp>
        <p:nvSpPr>
          <p:cNvPr id="72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8487-1AE0-4F8F-9304-20C2603B4E7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Zentrale Server stellt existierende, noch nicht gestartete Spiele für andere Spieler zur Verfügung. Alle Daten werden ebenso zentral auf dem Server verwaltet, wie zB Spielername, Positionen der Spieler und natürlich der Positionen der virtuellen Objekte (Fahne, Schlüssel, etc). Der Server empfängt Positionsdaten von Spielern und leitet sie an andere Mitspieler we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2FE8-1E8E-4EAD-8958-6CEBDAA776A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ranca</a:t>
            </a:r>
            <a:endParaRPr b="0" lang="en-US" sz="1200" spc="-1" strike="noStrike">
              <a:solidFill>
                <a:srgbClr val="000000"/>
              </a:solidFill>
              <a:latin typeface="Calibri"/>
            </a:endParaRPr>
          </a:p>
        </p:txBody>
      </p:sp>
      <p:sp>
        <p:nvSpPr>
          <p:cNvPr id="64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79F0-74F5-4A3D-ADB9-79191F8FDBE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öff Tö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verwenden GPS für die Festlegung eines dynamischen Spielfeldes durch die Eckpunktkoordinaten. Dazu benötigen wir mindestens 3 Eckpunkte. Ebenso verwenden wir es um den Standort der Spieler zu speichern.</a:t>
            </a:r>
            <a:endParaRPr b="0" lang="en-US" sz="1200" spc="-1" strike="noStrike">
              <a:solidFill>
                <a:srgbClr val="000000"/>
              </a:solidFill>
              <a:latin typeface="Calibri"/>
            </a:endParaRPr>
          </a:p>
        </p:txBody>
      </p:sp>
      <p:sp>
        <p:nvSpPr>
          <p:cNvPr id="730"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123B-6AAF-4C83-AA67-236DB4E7F61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HICKYYYYYYYYYYYYYYYY :D</a:t>
            </a:r>
            <a:endParaRPr b="0" lang="en-US" sz="1200" spc="-1" strike="noStrike">
              <a:solidFill>
                <a:srgbClr val="000000"/>
              </a:solidFill>
              <a:latin typeface="Calibri"/>
            </a:endParaRPr>
          </a:p>
        </p:txBody>
      </p:sp>
      <p:sp>
        <p:nvSpPr>
          <p:cNvPr id="73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685B-B853-4883-BBA4-3EB3868ED2A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öff töff</a:t>
            </a:r>
            <a:endParaRPr b="0" lang="en-US" sz="1200" spc="-1" strike="noStrike">
              <a:solidFill>
                <a:srgbClr val="000000"/>
              </a:solidFill>
              <a:latin typeface="Calibri"/>
            </a:endParaRPr>
          </a:p>
        </p:txBody>
      </p:sp>
      <p:sp>
        <p:nvSpPr>
          <p:cNvPr id="65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EB4F-EEB8-4BC6-9F39-C9DC57634E6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ist ein beliebtes Kinderspiel und eine Kombination von Bewegung und Spielspaß. Es gibt 2 Teams mit mindetens 4 Spieler pro Team. Zusätzlich werden virtuelle Objekte den Spielablauf beeinflussen. Diese Objekte erscheinen zufällig bzw werden durch Spieler zugewie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pielfeld passt sich dynamisch an, daher ist es unnotwendig immer am selben Ort zu spielen.</a:t>
            </a:r>
            <a:endParaRPr b="0" lang="en-US" sz="1200" spc="-1" strike="noStrike">
              <a:solidFill>
                <a:srgbClr val="000000"/>
              </a:solidFill>
              <a:latin typeface="Calibri"/>
            </a:endParaRPr>
          </a:p>
        </p:txBody>
      </p:sp>
      <p:sp>
        <p:nvSpPr>
          <p:cNvPr id="65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8181-55AC-4452-B885-E16EE20FB26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pielfeld wird anhand von drei Eckpunkten festgelegt. Das ist folgender Maßen vorstellbar, dass sich drei Mitspieler an die Eckpunkte des gewünschten Spielfeldes stellen und somit die Koordinaten des GPS ermittelt werden. Ist dieser Vorgang abgeschlossen, wird das so eben ermittelte Spielfeld in zwei Hälften eingeteilt. Zur besseren Übersicht wird es die Möglichkeit geben einen Raster anzuzei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man sich nun vorstellen kann, sind bei einem dynamischen Spielfeld beliebige Größen möglich. Daher wird ein Zoom ermöglicht, um die Positionen verschiedener Objekte genauer bestimmen zu kö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den Reiz (rrr) des Spieles zu erhöhen, wird die gegnerische Hälfte des Feldes am PDA durch einen Neben verdeckt, wie in bekannten Strategiespielen.</a:t>
            </a:r>
            <a:endParaRPr b="0" lang="en-US" sz="1200" spc="-1" strike="noStrike">
              <a:solidFill>
                <a:srgbClr val="000000"/>
              </a:solidFill>
              <a:latin typeface="Calibri"/>
            </a:endParaRPr>
          </a:p>
        </p:txBody>
      </p:sp>
      <p:sp>
        <p:nvSpPr>
          <p:cNvPr id="65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87D3-5875-4115-A664-16B97B13BE4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m unser Spiel überhaupt zu ermöglichen, werden bestimmte Gegenstände, die normalerweise in der wirklichen Welt vorkommen würden, als virtuelle Objekte dargestellt. Dazu zählen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lagge (eine pro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fängnisse (eines pro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chlüssel (ein Schlüss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9FC1-1FC4-4495-B0A1-05E4365F05A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pieler, die an einen Spiel teilnehmen, werden als Kreuzchen dargestellt. Dabei bekommt jedes Team eine Farbe zugewie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ein blaues und ein rotes Team, dies dient vorallem zur besseren und schnelleren Erkennung der gegnerischen und eigenen Spieler am Dis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an kann 3 Rollen im Spiel einnehmen, die sich je nach Spielsituation ergeb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Gefangene ist vom Spiel für eine gewisse Zeit ausgeschloss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Flaggenträger hat die Aufgabe sich Punkte für sein Team zu ergatter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er Fänger versucht genau dies zu verhindern.</a:t>
            </a:r>
            <a:endParaRPr b="0" lang="en-US" sz="1200" spc="-1" strike="noStrike">
              <a:solidFill>
                <a:srgbClr val="000000"/>
              </a:solidFill>
              <a:latin typeface="Calibri"/>
            </a:endParaRPr>
          </a:p>
        </p:txBody>
      </p:sp>
      <p:sp>
        <p:nvSpPr>
          <p:cNvPr id="664"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9349-D1F8-4EC5-A2E5-FDF07ABC733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Ol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iel des Spiels ist es, die gegnerische Flagge drei Mal zu erobern und dies natürlich schneller als seine Gegner. Vor allem durch Kooperation mit seinen Teammitgliedern wird ein Sieg erst mögli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ch Teammitglieder haben nicht nur die Aufgabe den Flaggenträger dabei zu helfen die Flagge sicher zur eigenen Flagge zurückzubringen, sondern müssen auch taktische Überlegungen anbringen, wenn es darum geht eigene Mitspieler aus dem Gefängnis zu befreien und es ihnen so wieder zu ermöglichen am Spiel teilzunehmen.</a:t>
            </a:r>
            <a:endParaRPr b="0" lang="en-US" sz="1200" spc="-1" strike="noStrike">
              <a:solidFill>
                <a:srgbClr val="000000"/>
              </a:solidFill>
              <a:latin typeface="Calibri"/>
            </a:endParaRPr>
          </a:p>
        </p:txBody>
      </p:sp>
      <p:sp>
        <p:nvSpPr>
          <p:cNvPr id="66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C904-785D-4222-A0C7-5B42ADF903A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DAD45-73A7-43C0-BF71-718E73B03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4B44-1993-4EFA-A246-A89BAE03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F4CC3D-2C76-4A98-976D-1BBB39157B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07C95-7D01-4D97-B054-986CF54CC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E3F48-96EB-4622-8900-2B7EF35EA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D254B-0739-462C-8891-024973A76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038D9-F1E4-4A76-82DD-4E761B65C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FFB40-3ECB-4D76-83B7-33494ECF5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0C844-0FE6-42A7-8188-BDA29F737D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05C862-09FC-444F-96EA-3096A72E8C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8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78310D-1121-4CB2-9EC3-E78C2AEE86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AF5E94-98B1-4D3B-B31A-69137ADC9F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12B4C-651B-48B3-A1AC-95D063D23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64BA9F-3BA0-4923-A988-7A03471123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2CDAC5-5003-4B0A-9CE1-4C9E16B61E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AA079F-9AF0-4041-B0AE-78E73E4EF9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E648AC-4A30-49BC-8CB3-A1A32F381B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82D23D-80BC-4EFF-817C-10F4B3F217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B771CF-0093-4DC7-990C-AA3BA1E903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51B818-0E66-415A-81DA-13FBAA4385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93F4E7-9523-4D54-AA83-555A73DD0F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1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C93CEF-3434-4F54-B84A-0983679C27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2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E9FE2E-D8F6-420B-8925-A2CCCF0A5D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619F7-725E-423B-A3B9-8AA77D7F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2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AA3C3B-969A-42AD-A6C4-2DFDB3D145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339904-B1EC-41E0-B93C-DC470EA700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3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B5E03F-98D3-441F-A421-A80956A1E7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3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BAFDFA-623B-4FFC-8FFB-1FBA9E1BD4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4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D66718-7CC1-4C15-AA3C-089E8F9492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42FC9D-D2C8-4CDA-8947-04190E2CCB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EE346A-679D-4E6F-946F-20192C3D69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4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18FDE4-5F72-47FC-B6D4-83832FD50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0D348B-6840-4262-B797-2A66AC4CB4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CB3B96-A1F9-478F-A04A-468EF28EA5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E6139-965F-46DA-BBAB-5FA8B2558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5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3B3550-ADBC-412E-8BEF-08D266C069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6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5B3912-56C9-4823-BD65-36FE3CFA95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6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F4C070-65E5-4E06-B950-8320A28680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B4F28F-5C7A-42DF-89B5-ABEC4BEE33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3CE611-4CB0-4838-8FAF-2785B268B5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048276-E90F-4CD3-BF7D-B824367FAF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48E2A1-93D2-4BAB-8CD0-CA9FCBD8B2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A725FE-1207-4246-9805-DB1E9AE50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31B45F-2CB9-4F96-A181-A9BA315B1B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75E0D3-978F-422B-ACE2-7B24461765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0F0A4-1B66-4871-8DB9-671056E23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4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FA8CEA-70ED-4B38-A492-E1EA9EF3B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B3D6D3-2635-4C88-B384-D4CEE09B7C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983685-09D9-4BAF-9A02-D273CE9EDD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7EE76E-527C-490E-A159-D34E055998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71308D-2BD5-41AD-BB62-19CD8EC688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D3D419-4305-4D75-895F-2A92D87C9A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48DB32-3D24-40B6-98DB-F221C1D22B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14BD45-EB3A-4491-828A-5E3247844E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9DF126-A136-446C-90A8-D5EB0ABBA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DCE98F-7DFB-40CA-B0EF-10B2EE66A4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B1AEF-5091-4140-89CE-BC87FE48A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9854D9-D13D-408B-927C-598D18976C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833BB3-7410-4191-B590-2B0D5193B8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4E4804-DE3B-4B95-BF6C-C0F67F1AE3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5851CE-3D0A-4C91-8B3A-C298057ACA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CA6163-B433-424B-A07A-FA98DB7A00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8259AE-3DAE-4F74-A9D6-5CA64D6DEB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F3AEFA-D955-4122-839A-0B534F5AD13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B2406-89AA-4165-AE2C-C520B2246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CF0FB-027D-4CF3-ABF3-C353CA025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44131-A479-4EE4-BE36-9118966D7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B01F-56EB-4DE7-A656-3A7F87C3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ADED-7C10-45B2-871C-A82B1F87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7E852-D22F-423E-96EE-743930BB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05173-E3E7-4C94-8F7B-FD4A6EDA3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5D6C-66DD-4325-AA33-69DB9FE28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104DF-1DBC-431B-A7F0-5F03A9715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79C52-6A1A-4339-9E5F-848DC4C8E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9716C-1061-4737-BCE7-2D0CE9F2F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3776E-060D-4EEC-8ACC-254991828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09AC1-4A5A-4004-81E0-3DC7A0721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3A4F5-5BD1-4AEE-B80B-5D03AE911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0B0BF-1F98-4552-9CD4-60C4FADD3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006B-B4A1-422A-B470-734DDC00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7723A-03D7-4908-899F-060514484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6F694-BD81-4A49-96C3-BDBFD545F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5C38A-BA0E-4A3A-8AA7-0441D3C4D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5E0CD-90C8-4E0A-B6CD-0F25F1DCC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B9C20-01B6-4903-9AF2-189D94352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69C572-D6D9-44C0-9F20-7BE7BF358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B6D87-9E5E-4BA1-BD89-ABC3CA15E9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CD5500-1F5D-4197-BA99-E91EE9AC0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968D2-40A1-4FE7-921B-15646213E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6F185-E97D-4878-B946-C3F5BF311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F4D7-4482-417C-B3F5-CD832E3B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92386-AA3F-4024-BC84-C535CC1E0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730622-C56A-4356-AC18-9DBC8BC9A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65D583-7579-403F-B046-F11C47140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59CC7-3D79-4487-9DEB-DE246F27F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9E841-14FB-4DF9-A375-4A414B342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C5273-6354-4AAD-A7C0-A5920C94D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04230-9A80-41AA-80B2-70ADDB71D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B63E9A-AC7F-46EB-961E-1977827E9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E5406-5BA2-45F5-8D82-4D17BEF0D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D9E2D8-9F9D-4F95-907B-50D4B14A6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134A-8240-4940-ACDB-781F4EFD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6F2D1-0514-4EB2-8B74-C12BB8036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6F3C5-EA48-41A4-9961-20817CF58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2ECA8-7403-4AF8-A9E7-4120AC174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23D2D-9933-4F58-8810-DAA9BB1D1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C9030-6212-4EFD-9E6E-C72F39E640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6E6AF-E853-44FB-9CA4-8D6A51D5D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6003F-7A06-47D4-9CB9-2E8598DD1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25EC3-B60B-4CAF-974F-50A9F78BC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286BB-523E-44A0-BCF6-247D8354C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AB25B8-DCD0-4AEC-87E2-6DEA384E6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6F4D8-984D-4D05-8DF3-B517354E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7D4DD-47DB-42E1-82AF-53C7B7195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3EAD80-CECC-4B64-8A5B-F5591286A3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3CDDB-6A84-406B-B93A-6526AA863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E949C-2B77-4235-918B-CD41C6CEC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7C334-02D2-40E9-AA79-29929498F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5E9FF-440C-4B8C-83FF-026C2DBBB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FCF60-B0BA-4510-BF85-B5EDB936C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84123-18BE-41F3-ABC7-C39F2AA1B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649EE-7E70-4449-B03F-1D24C2AC2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62992-59C1-491A-A09B-02808F9C8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430C-AF7B-4C94-8E0E-C98F7769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434BB-5448-4EEA-8499-8CA8D1215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3F2F6-7A06-45E8-A777-98108D294B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F3D59-A72A-408D-B3B9-5C6821E17D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87A7B0-C1D8-456E-8E70-292331080F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6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4BF86-ED30-4385-B9E8-9FCAD27ED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F1A27-6E6E-4B58-AAB5-BB12664C2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97BDE-EF66-4B49-A187-F0B52D5F3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4FFCD-860C-4945-B08C-80F11C6F3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EBF995-EF7F-4F41-BDC1-FCE93817A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2C0C7-7907-41A5-A03E-F3042930C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DC5B-4800-4D6B-BF64-E61C253C2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BE138-5637-4C03-93BD-DEBD1F6FC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97914-69D6-4653-89C2-877E98EFE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0701D-2988-4D98-B00B-B2BFD737F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E3BB88-32B7-4F0A-B725-958DCBDFA9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B0ED30-0C49-4BA8-8D7D-0D89B0DBE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6B9A0C-0DDB-4FDD-AB64-23BDDC6CED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96D4E-5693-46B3-BDB7-4AECECF84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9ADBB-3F0D-4856-A05F-325309A2AA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06E9D-F227-4BC5-9C20-61F1DBAD0A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0D4D7B-ADF7-4A01-9A6B-0D2D25B99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FBD8-00DC-444D-8044-48F986561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122714-74E5-4A28-AFC5-59181C538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1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5186D-8C29-491E-B582-BFEEC971F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250C6-6BD8-46B2-B3B9-A72C1028B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DE75E-BDDA-4228-8DBD-A501DC0C96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DBA91C-7605-4693-9F55-14CDEFD0C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A651B1-DB83-4A39-AE7A-F8C3132E92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3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6B9707-7E83-4637-BFEB-74397879D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EBD8B0-1525-4C48-ADCE-F8EC67C97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5F5D8E-A824-4240-8132-DCB347019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5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C3C77A-F973-4920-A604-1F06140F36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B1BE-B7A7-41CC-89F0-1CE993BC50DA}"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pic>
        <p:nvPicPr>
          <p:cNvPr id="7" name="Picture 2" descr="C:\Dokumente und Einstellungen\User\Eigene Dateien\Schule\BO\EDVO_Schriftzug.gif"/>
          <p:cNvPicPr/>
          <p:nvPr/>
        </p:nvPicPr>
        <p:blipFill>
          <a:blip r:embed="rId3"/>
          <a:stretch/>
        </p:blipFill>
        <p:spPr>
          <a:xfrm>
            <a:off x="6786720" y="142920"/>
            <a:ext cx="2112840" cy="633240"/>
          </a:xfrm>
          <a:prstGeom prst="rect">
            <a:avLst/>
          </a:prstGeom>
          <a:ln w="0">
            <a:noFill/>
          </a:ln>
        </p:spPr>
      </p:pic>
      <p:pic>
        <p:nvPicPr>
          <p:cNvPr id="8" name="Picture 3" descr="C:\Dokumente und Einstellungen\User\Eigene Dateien\Schule\BO\logo_fh_kaernten.gif"/>
          <p:cNvPicPr/>
          <p:nvPr/>
        </p:nvPicPr>
        <p:blipFill>
          <a:blip r:embed="rId4"/>
          <a:stretch/>
        </p:blipFill>
        <p:spPr>
          <a:xfrm>
            <a:off x="7500960" y="928800"/>
            <a:ext cx="1339920" cy="63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Freihandform 13"/>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ihandform 14"/>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92" name="PlaceHolder 3"/>
          <p:cNvSpPr>
            <a:spLocks noGrp="1"/>
          </p:cNvSpPr>
          <p:nvPr>
            <p:ph type="dt" idx="28"/>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1B00-47ED-4AF5-8012-3388C8E6CC2A}"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3" name="PlaceHolder 3"/>
          <p:cNvSpPr>
            <a:spLocks noGrp="1"/>
          </p:cNvSpPr>
          <p:nvPr>
            <p:ph type="dt" idx="31"/>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9AD9-2CE8-4176-BE51-3E49FC23BDDE}"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2" name="Grafik 16" descr="ctf_logo.gif"/>
          <p:cNvPicPr/>
          <p:nvPr/>
        </p:nvPicPr>
        <p:blipFill>
          <a:blip r:embed="rId3"/>
          <a:stretch/>
        </p:blipFill>
        <p:spPr>
          <a:xfrm>
            <a:off x="480960" y="1352520"/>
            <a:ext cx="8150400" cy="8304120"/>
          </a:xfrm>
          <a:prstGeom prst="rect">
            <a:avLst/>
          </a:prstGeom>
          <a:ln w="0">
            <a:noFill/>
          </a:ln>
        </p:spPr>
      </p:pic>
      <p:sp>
        <p:nvSpPr>
          <p:cNvPr id="473" name="Freihandform 11"/>
          <p:cNvSpPr/>
          <p:nvPr/>
        </p:nvSpPr>
        <p:spPr>
          <a:xfrm>
            <a:off x="0" y="4745160"/>
            <a:ext cx="9144000" cy="211284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Grafik 10" descr="fh.gif"/>
          <p:cNvPicPr/>
          <p:nvPr/>
        </p:nvPicPr>
        <p:blipFill>
          <a:blip r:embed="rId4"/>
          <a:stretch/>
        </p:blipFill>
        <p:spPr>
          <a:xfrm>
            <a:off x="7500960" y="6215040"/>
            <a:ext cx="1463760" cy="500040"/>
          </a:xfrm>
          <a:prstGeom prst="rect">
            <a:avLst/>
          </a:prstGeom>
          <a:ln w="0">
            <a:noFill/>
          </a:ln>
          <a:effectLst>
            <a:outerShdw dist="139498" dir="2700000" blurRad="0" rotWithShape="0">
              <a:srgbClr val="333333">
                <a:alpha val="65000"/>
              </a:srgbClr>
            </a:outerShdw>
          </a:effectLst>
        </p:spPr>
      </p:pic>
      <p:pic>
        <p:nvPicPr>
          <p:cNvPr id="476" name="Grafik 12" descr="edvo.gif"/>
          <p:cNvPicPr/>
          <p:nvPr/>
        </p:nvPicPr>
        <p:blipFill>
          <a:blip r:embed="rId5"/>
          <a:stretch/>
        </p:blipFill>
        <p:spPr>
          <a:xfrm>
            <a:off x="71280" y="6357960"/>
            <a:ext cx="1567080" cy="428760"/>
          </a:xfrm>
          <a:prstGeom prst="rect">
            <a:avLst/>
          </a:prstGeom>
          <a:ln w="0">
            <a:noFill/>
          </a:ln>
        </p:spPr>
      </p:pic>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9" name="PlaceHolder 3"/>
          <p:cNvSpPr>
            <a:spLocks noGrp="1"/>
          </p:cNvSpPr>
          <p:nvPr>
            <p:ph type="dt" idx="34"/>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480"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6"/>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325A-EC53-4909-ADE7-7D63FD6DB6EC}"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51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0"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521"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B9F4-3E95-463C-9FC2-180127177150}"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D66E-A553-4904-80F8-44A0E9CBA00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Grafik 16" descr="ctf_logo.gif"/>
          <p:cNvPicPr/>
          <p:nvPr/>
        </p:nvPicPr>
        <p:blipFill>
          <a:blip r:embed="rId3"/>
          <a:stretch/>
        </p:blipFill>
        <p:spPr>
          <a:xfrm>
            <a:off x="480960" y="1352520"/>
            <a:ext cx="8150400" cy="8304120"/>
          </a:xfrm>
          <a:prstGeom prst="rect">
            <a:avLst/>
          </a:prstGeom>
          <a:ln w="0">
            <a:noFill/>
          </a:ln>
        </p:spPr>
      </p:pic>
      <p:sp>
        <p:nvSpPr>
          <p:cNvPr id="87" name="Freihandform 11"/>
          <p:cNvSpPr/>
          <p:nvPr/>
        </p:nvSpPr>
        <p:spPr>
          <a:xfrm>
            <a:off x="0" y="4745160"/>
            <a:ext cx="9144000" cy="211284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9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1" name="PlaceHolder 3"/>
          <p:cNvSpPr>
            <a:spLocks noGrp="1"/>
          </p:cNvSpPr>
          <p:nvPr>
            <p:ph type="dt" idx="7"/>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A6AB-94C3-46EF-9BE9-75F388475567}"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pic>
        <p:nvPicPr>
          <p:cNvPr id="94" name="Grafik 10" descr="fh.gif"/>
          <p:cNvPicPr/>
          <p:nvPr/>
        </p:nvPicPr>
        <p:blipFill>
          <a:blip r:embed="rId4"/>
          <a:stretch/>
        </p:blipFill>
        <p:spPr>
          <a:xfrm>
            <a:off x="7500960" y="6215040"/>
            <a:ext cx="1463760" cy="500040"/>
          </a:xfrm>
          <a:prstGeom prst="rect">
            <a:avLst/>
          </a:prstGeom>
          <a:ln w="0">
            <a:noFill/>
          </a:ln>
          <a:effectLst>
            <a:outerShdw dist="139498" dir="2700000" blurRad="0" rotWithShape="0">
              <a:srgbClr val="333333">
                <a:alpha val="65000"/>
              </a:srgbClr>
            </a:outerShdw>
          </a:effectLst>
        </p:spPr>
      </p:pic>
      <p:pic>
        <p:nvPicPr>
          <p:cNvPr id="95" name="Grafik 12" descr="edvo.gif"/>
          <p:cNvPicPr/>
          <p:nvPr/>
        </p:nvPicPr>
        <p:blipFill>
          <a:blip r:embed="rId5"/>
          <a:stretch/>
        </p:blipFill>
        <p:spPr>
          <a:xfrm>
            <a:off x="71280" y="6357960"/>
            <a:ext cx="15670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ihandform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ihandform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6"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137"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A618-B629-4D87-9052-7EA52139C975}"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ihandform 10"/>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ihandform 12"/>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9"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3639-7977-443A-AE46-C76D98D09521}"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1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0"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221"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F3C1-3007-4134-928C-6FA3F92A89EF}"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Freihandform 11"/>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ihandform 15"/>
          <p:cNvSpPr/>
          <p:nvPr/>
        </p:nvSpPr>
        <p:spPr>
          <a:xfrm>
            <a:off x="7315200" y="0"/>
            <a:ext cx="18288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Picture 2" descr="C:\Dokumente und Einstellungen\User\Eigene Dateien\Schule\BO\EDVO_Schriftzug.gif"/>
          <p:cNvPicPr/>
          <p:nvPr/>
        </p:nvPicPr>
        <p:blipFill>
          <a:blip r:embed="rId3"/>
          <a:stretch/>
        </p:blipFill>
        <p:spPr>
          <a:xfrm>
            <a:off x="6786720" y="142920"/>
            <a:ext cx="2112840" cy="633240"/>
          </a:xfrm>
          <a:prstGeom prst="rect">
            <a:avLst/>
          </a:prstGeom>
          <a:ln w="0">
            <a:noFill/>
          </a:ln>
        </p:spPr>
      </p:pic>
      <p:pic>
        <p:nvPicPr>
          <p:cNvPr id="262" name="Picture 3" descr="C:\Dokumente und Einstellungen\User\Eigene Dateien\Schule\BO\logo_fh_kaernten.gif"/>
          <p:cNvPicPr/>
          <p:nvPr/>
        </p:nvPicPr>
        <p:blipFill>
          <a:blip r:embed="rId4"/>
          <a:stretch/>
        </p:blipFill>
        <p:spPr>
          <a:xfrm>
            <a:off x="7500960" y="928800"/>
            <a:ext cx="1339920" cy="633240"/>
          </a:xfrm>
          <a:prstGeom prst="rect">
            <a:avLst/>
          </a:prstGeom>
          <a:ln w="0">
            <a:noFill/>
          </a:ln>
        </p:spPr>
      </p:pic>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3094-551F-4A5D-88E7-C07F27B327E0}"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0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06"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07"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519A-00D8-44A4-A3DC-05281AAC22B6}"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Freihandform 13"/>
          <p:cNvSpPr/>
          <p:nvPr/>
        </p:nvSpPr>
        <p:spPr>
          <a:xfrm>
            <a:off x="0" y="4751280"/>
            <a:ext cx="9144000" cy="2113200"/>
          </a:xfrm>
          <a:prstGeom prst="pie">
            <a:avLst/>
          </a:pr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ihandform 14"/>
          <p:cNvSpPr/>
          <p:nvPr/>
        </p:nvSpPr>
        <p:spPr>
          <a:xfrm>
            <a:off x="6105600" y="0"/>
            <a:ext cx="3038400" cy="6858000"/>
          </a:xfrm>
          <a:prstGeom prst="pie">
            <a:avLst/>
          </a:pr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9" name="PlaceHolder 3"/>
          <p:cNvSpPr>
            <a:spLocks noGrp="1"/>
          </p:cNvSpPr>
          <p:nvPr>
            <p:ph type="dt" idx="25"/>
          </p:nvPr>
        </p:nvSpPr>
        <p:spPr>
          <a:xfrm>
            <a:off x="6000840" y="6428880"/>
            <a:ext cx="213336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22"/>
                </a:solidFill>
                <a:latin typeface="Times New Roman"/>
              </a:rPr>
              <a:t>&lt;date/time&gt;</a:t>
            </a:r>
            <a:endParaRPr b="0" lang="en-US" sz="1000" spc="-1" strike="noStrike">
              <a:solidFill>
                <a:srgbClr val="000000"/>
              </a:solidFill>
              <a:latin typeface="Times New Roman"/>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533E-4FC8-4EAF-A12D-77BD9F2D057B}" type="slidenum">
              <a:rPr b="0" lang="de-DE" sz="1000" spc="-1" strike="noStrike">
                <a:solidFill>
                  <a:srgbClr val="22222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Titel 1" descr=""/>
          <p:cNvPicPr/>
          <p:nvPr/>
        </p:nvPicPr>
        <p:blipFill>
          <a:blip r:embed="rId1"/>
          <a:stretch/>
        </p:blipFill>
        <p:spPr>
          <a:xfrm>
            <a:off x="420840" y="3200400"/>
            <a:ext cx="6838920" cy="2444760"/>
          </a:xfrm>
          <a:prstGeom prst="rect">
            <a:avLst/>
          </a:prstGeom>
          <a:ln w="0">
            <a:noFill/>
          </a:ln>
        </p:spPr>
      </p:pic>
      <p:sp>
        <p:nvSpPr>
          <p:cNvPr id="567"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vorbereitung</a:t>
            </a:r>
            <a:endParaRPr b="0" lang="en-US" sz="4600" spc="-1" strike="noStrike">
              <a:solidFill>
                <a:srgbClr val="000000"/>
              </a:solidFill>
              <a:latin typeface="Franklin Gothic Book"/>
            </a:endParaRPr>
          </a:p>
        </p:txBody>
      </p:sp>
      <p:sp>
        <p:nvSpPr>
          <p:cNvPr id="58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Teameinteilung</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en des Spielfelde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etzen der virtuellen Objekt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begin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ie Teameinteilung</a:t>
            </a:r>
            <a:endParaRPr b="0" lang="en-US" sz="4600" spc="-1" strike="noStrike">
              <a:solidFill>
                <a:srgbClr val="000000"/>
              </a:solidFill>
              <a:latin typeface="Franklin Gothic Book"/>
            </a:endParaRPr>
          </a:p>
        </p:txBody>
      </p:sp>
      <p:sp>
        <p:nvSpPr>
          <p:cNvPr id="58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teilung der Spieler in zwei Team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en der Teamchefs</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estlegen des Spielfeldes</a:t>
            </a:r>
            <a:endParaRPr b="0" lang="en-US" sz="4600" spc="-1" strike="noStrike">
              <a:solidFill>
                <a:srgbClr val="000000"/>
              </a:solidFill>
              <a:latin typeface="Franklin Gothic Book"/>
            </a:endParaRPr>
          </a:p>
        </p:txBody>
      </p:sp>
      <p:sp>
        <p:nvSpPr>
          <p:cNvPr id="58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rei Spieler bewegen sich zu den Eckpunkten</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echteckiges Spielfeld wird generiert</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In der Mitte wird das Spielfeld in zwei Hälften aufgeteilt.</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Vernebelung der gegnerischen Hälfte</a:t>
            </a:r>
            <a:endParaRPr b="0" lang="en-US" sz="3000" spc="-1" strike="noStrike">
              <a:solidFill>
                <a:srgbClr val="000000"/>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etzen der virtuellen Objekte</a:t>
            </a:r>
            <a:endParaRPr b="0" lang="en-US" sz="4600" spc="-1" strike="noStrike">
              <a:solidFill>
                <a:srgbClr val="000000"/>
              </a:solidFill>
              <a:latin typeface="Franklin Gothic Book"/>
            </a:endParaRPr>
          </a:p>
        </p:txBody>
      </p:sp>
      <p:sp>
        <p:nvSpPr>
          <p:cNvPr id="59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Platzieren der Flaggen durch die     Teamchef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radius wird festgelegt</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Generieren der Gefängniss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Platzierung des Schlüssels</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Kartenübersicht</a:t>
            </a:r>
            <a:endParaRPr b="0" lang="en-US" sz="4600" spc="-1" strike="noStrike">
              <a:solidFill>
                <a:srgbClr val="000000"/>
              </a:solidFill>
              <a:latin typeface="Franklin Gothic Book"/>
            </a:endParaRPr>
          </a:p>
        </p:txBody>
      </p:sp>
      <p:pic>
        <p:nvPicPr>
          <p:cNvPr id="593" name="" descr=""/>
          <p:cNvPicPr/>
          <p:nvPr/>
        </p:nvPicPr>
        <p:blipFill>
          <a:blip r:embed="rId1"/>
          <a:stretch/>
        </p:blipFill>
        <p:spPr>
          <a:xfrm>
            <a:off x="456840" y="1600200"/>
            <a:ext cx="7467480" cy="4525920"/>
          </a:xfrm>
          <a:prstGeom prst="rect">
            <a:avLst/>
          </a:prstGeom>
          <a:ln w="0">
            <a:noFill/>
          </a:ln>
        </p:spPr>
      </p:pic>
      <p:pic>
        <p:nvPicPr>
          <p:cNvPr id="594" name="Picture 2" descr="D:\Schule\4. Klasse\Projekt FH CTF\uebersicht.gif"/>
          <p:cNvPicPr/>
          <p:nvPr/>
        </p:nvPicPr>
        <p:blipFill>
          <a:blip r:embed="rId2"/>
          <a:stretch/>
        </p:blipFill>
        <p:spPr>
          <a:xfrm>
            <a:off x="3000240" y="1357200"/>
            <a:ext cx="2857680" cy="513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regeln</a:t>
            </a:r>
            <a:endParaRPr b="0" lang="en-US" sz="4600" spc="-1" strike="noStrike">
              <a:solidFill>
                <a:srgbClr val="000000"/>
              </a:solidFill>
              <a:latin typeface="Franklin Gothic Book"/>
            </a:endParaRPr>
          </a:p>
        </p:txBody>
      </p:sp>
      <p:sp>
        <p:nvSpPr>
          <p:cNvPr id="5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 erobern</a:t>
            </a: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fang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en Punkt erziel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freien seiner Mitspiel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Gegnerische Flagge erobern</a:t>
            </a:r>
            <a:endParaRPr b="0" lang="en-US" sz="4600" spc="-1" strike="noStrike">
              <a:solidFill>
                <a:srgbClr val="000000"/>
              </a:solidFill>
              <a:latin typeface="Franklin Gothic Book"/>
            </a:endParaRPr>
          </a:p>
        </p:txBody>
      </p:sp>
      <p:sp>
        <p:nvSpPr>
          <p:cNvPr id="598" name=""/>
          <p:cNvSpPr txBox="1"/>
          <p:nvPr/>
        </p:nvSpPr>
        <p:spPr>
          <a:xfrm>
            <a:off x="457200" y="1600200"/>
            <a:ext cx="3657600" cy="4525920"/>
          </a:xfrm>
          <a:prstGeom prst="rect">
            <a:avLst/>
          </a:prstGeom>
          <a:noFill/>
          <a:ln w="0">
            <a:noFill/>
          </a:ln>
        </p:spPr>
        <p:txBody>
          <a:bodyPr lIns="90000" rIns="90000" tIns="46800" bIns="46800" anchor="t">
            <a:normAutofit/>
          </a:bodyPr>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ieler muss sich in der Nähe der Flaggenposition befinden</a:t>
            </a: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r innerhalb des Flaggenradius möglich</a:t>
            </a: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9040" indent="-382680">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gener Flaggenradius verschwindet</a:t>
            </a:r>
            <a:endParaRPr b="0" lang="en-US" sz="2200" spc="-1" strike="noStrike">
              <a:solidFill>
                <a:srgbClr val="000000"/>
              </a:solidFill>
              <a:latin typeface="Arial"/>
            </a:endParaRPr>
          </a:p>
        </p:txBody>
      </p:sp>
      <p:pic>
        <p:nvPicPr>
          <p:cNvPr id="599" name="" descr=""/>
          <p:cNvPicPr/>
          <p:nvPr/>
        </p:nvPicPr>
        <p:blipFill>
          <a:blip r:embed="rId1"/>
          <a:stretch/>
        </p:blipFill>
        <p:spPr>
          <a:xfrm>
            <a:off x="4267080" y="1600200"/>
            <a:ext cx="3657600" cy="4525920"/>
          </a:xfrm>
          <a:prstGeom prst="rect">
            <a:avLst/>
          </a:prstGeom>
          <a:ln w="0">
            <a:noFill/>
          </a:ln>
        </p:spPr>
      </p:pic>
      <p:pic>
        <p:nvPicPr>
          <p:cNvPr id="600" name="Picture 3" descr="C:\Dokumente und Einstellungen\User\Eigene Dateien\Schule\FH Projekt\SpielerTraegtFlagge.gif"/>
          <p:cNvPicPr/>
          <p:nvPr/>
        </p:nvPicPr>
        <p:blipFill>
          <a:blip r:embed="rId2"/>
          <a:stretch/>
        </p:blipFill>
        <p:spPr>
          <a:xfrm>
            <a:off x="4429080" y="1357200"/>
            <a:ext cx="2838600" cy="5104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laggenträger fangen</a:t>
            </a:r>
            <a:endParaRPr b="0" lang="en-US" sz="4600" spc="-1" strike="noStrike">
              <a:solidFill>
                <a:srgbClr val="000000"/>
              </a:solidFill>
              <a:latin typeface="Franklin Gothic Book"/>
            </a:endParaRPr>
          </a:p>
        </p:txBody>
      </p:sp>
      <p:sp>
        <p:nvSpPr>
          <p:cNvPr id="6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ßerhalb der Flaggenradien möglich</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können nur Spieler gefangen werden, die die Flagge aufgenommen habe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aufeinandertreffen beider Flaggenträger, sind beide gefange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angene Spieler müssen in das Gefäng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Einen Punkt erzielen – Teil 1</a:t>
            </a:r>
            <a:endParaRPr b="0" lang="en-US" sz="4600" spc="-1" strike="noStrike">
              <a:solidFill>
                <a:srgbClr val="000000"/>
              </a:solidFill>
              <a:latin typeface="Franklin Gothic Book"/>
            </a:endParaRPr>
          </a:p>
        </p:txBody>
      </p:sp>
      <p:sp>
        <p:nvSpPr>
          <p:cNvPr id="6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as gegnerische Team darf die Flagge nicht besitz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träger muss bei der eigenen Flagge befind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ie eigenen Gefangenen müssen sich im Gefängnis befind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Einen Punkt erzielen – Teil 2</a:t>
            </a:r>
            <a:endParaRPr b="0" lang="en-US" sz="4600" spc="-1" strike="noStrike">
              <a:solidFill>
                <a:srgbClr val="000000"/>
              </a:solidFill>
              <a:latin typeface="Franklin Gothic Book"/>
            </a:endParaRPr>
          </a:p>
        </p:txBody>
      </p:sp>
      <p:sp>
        <p:nvSpPr>
          <p:cNvPr id="606"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Flagge kann  man einem in der Nähe befindlichen Spieler zuspielen.</a:t>
            </a:r>
            <a:endParaRPr b="0" lang="en-US" sz="26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21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7" name="" descr=""/>
          <p:cNvPicPr/>
          <p:nvPr/>
        </p:nvPicPr>
        <p:blipFill>
          <a:blip r:embed="rId1"/>
          <a:stretch/>
        </p:blipFill>
        <p:spPr>
          <a:xfrm>
            <a:off x="4267080" y="1600200"/>
            <a:ext cx="3657600" cy="4525920"/>
          </a:xfrm>
          <a:prstGeom prst="rect">
            <a:avLst/>
          </a:prstGeom>
          <a:ln w="0">
            <a:noFill/>
          </a:ln>
        </p:spPr>
      </p:pic>
      <p:pic>
        <p:nvPicPr>
          <p:cNvPr id="608" name="Picture 2" descr="C:\Dokumente und Einstellungen\User\Eigene Dateien\Schule\FH Projekt\SpielerFlaggeWerfen.gif"/>
          <p:cNvPicPr/>
          <p:nvPr/>
        </p:nvPicPr>
        <p:blipFill>
          <a:blip r:embed="rId2"/>
          <a:stretch/>
        </p:blipFill>
        <p:spPr>
          <a:xfrm>
            <a:off x="4214880" y="1428840"/>
            <a:ext cx="2838240" cy="5103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ürk Oliver</a:t>
            </a:r>
            <a:endParaRPr b="0" lang="en-US" sz="4600" spc="-1" strike="noStrike">
              <a:solidFill>
                <a:srgbClr val="000000"/>
              </a:solidFill>
              <a:latin typeface="Franklin Gothic Book"/>
            </a:endParaRPr>
          </a:p>
        </p:txBody>
      </p:sp>
      <p:sp>
        <p:nvSpPr>
          <p:cNvPr id="5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9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Spittal an der Drau</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RG Spittal</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Monate Sparkasse Spittal/Os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exia Klagenfur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Befreien seiner Mitspieler</a:t>
            </a:r>
            <a:endParaRPr b="0" lang="en-US" sz="4600" spc="-1" strike="noStrike">
              <a:solidFill>
                <a:srgbClr val="000000"/>
              </a:solidFill>
              <a:latin typeface="Franklin Gothic Book"/>
            </a:endParaRPr>
          </a:p>
        </p:txBody>
      </p:sp>
      <p:sp>
        <p:nvSpPr>
          <p:cNvPr id="610"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lüssel wird benötigt</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r an der Gefängnistüre möglich</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schließlich aus eigenem Gefängnis</a:t>
            </a: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nerhalb einer festgelegten Zeit </a:t>
            </a:r>
            <a:endParaRPr b="0" lang="en-US" sz="2400" spc="-1" strike="noStrike">
              <a:solidFill>
                <a:srgbClr val="000000"/>
              </a:solidFill>
              <a:latin typeface="Arial"/>
            </a:endParaRPr>
          </a:p>
        </p:txBody>
      </p:sp>
      <p:pic>
        <p:nvPicPr>
          <p:cNvPr id="611" name="" descr=""/>
          <p:cNvPicPr/>
          <p:nvPr/>
        </p:nvPicPr>
        <p:blipFill>
          <a:blip r:embed="rId1"/>
          <a:stretch/>
        </p:blipFill>
        <p:spPr>
          <a:xfrm>
            <a:off x="4267080" y="1600200"/>
            <a:ext cx="3657600" cy="4525920"/>
          </a:xfrm>
          <a:prstGeom prst="rect">
            <a:avLst/>
          </a:prstGeom>
          <a:ln w="0">
            <a:noFill/>
          </a:ln>
        </p:spPr>
      </p:pic>
      <p:pic>
        <p:nvPicPr>
          <p:cNvPr id="612" name="Picture 2" descr="C:\Dokumente und Einstellungen\User\Eigene Dateien\Schule\FH Projekt\SpielerGefaengnisAufsperren.gif"/>
          <p:cNvPicPr/>
          <p:nvPr/>
        </p:nvPicPr>
        <p:blipFill>
          <a:blip r:embed="rId2"/>
          <a:stretch/>
        </p:blipFill>
        <p:spPr>
          <a:xfrm>
            <a:off x="4071960" y="1285920"/>
            <a:ext cx="2838600" cy="5103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beginn</a:t>
            </a:r>
            <a:endParaRPr b="0" lang="en-US" sz="4600" spc="-1" strike="noStrike">
              <a:solidFill>
                <a:srgbClr val="000000"/>
              </a:solidFill>
              <a:latin typeface="Franklin Gothic Book"/>
            </a:endParaRPr>
          </a:p>
        </p:txBody>
      </p:sp>
      <p:sp>
        <p:nvSpPr>
          <p:cNvPr id="61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begeben sich in die jeweiligen Hälf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reitschaftscheck</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tarten des Spielcountdown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ginn des Spiels</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C:\Dokumente und Einstellungen\User\Eigene Dateien\Schule\FH Projekt\SpielfeldSpielbeginn.gif"/>
          <p:cNvPicPr/>
          <p:nvPr/>
        </p:nvPicPr>
        <p:blipFill>
          <a:blip r:embed="rId1"/>
          <a:stretch/>
        </p:blipFill>
        <p:spPr>
          <a:xfrm>
            <a:off x="2928960" y="571680"/>
            <a:ext cx="3267000" cy="5875200"/>
          </a:xfrm>
          <a:prstGeom prst="rect">
            <a:avLst/>
          </a:prstGeom>
          <a:ln w="0">
            <a:noFill/>
          </a:ln>
          <a:effectLst>
            <a:outerShdw dist="139498" dir="2700000" blurRad="0" rotWithShape="0">
              <a:srgbClr val="333333">
                <a:alpha val="65000"/>
              </a:srgbClr>
            </a:outerShdw>
          </a:effectLst>
        </p:spPr>
      </p:pic>
      <p:sp>
        <p:nvSpPr>
          <p:cNvPr id="6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17" name="" descr=""/>
          <p:cNvPicPr/>
          <p:nvPr/>
        </p:nvPicPr>
        <p:blipFill>
          <a:blip r:embed="rId2"/>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1</a:t>
            </a:r>
            <a:endParaRPr b="0" lang="en-US" sz="4600" spc="-1" strike="noStrike">
              <a:solidFill>
                <a:srgbClr val="000000"/>
              </a:solidFill>
              <a:latin typeface="Franklin Gothic Book"/>
            </a:endParaRPr>
          </a:p>
        </p:txBody>
      </p:sp>
      <p:sp>
        <p:nvSpPr>
          <p:cNvPr id="61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pieler können sich nun in die gegnerische Spielhälfte begeben und versuchen die Flagge zu find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ebel wird aufgedeck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reits aufgedeckter Nebel ist innerhalb des Teams sichtbar</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Hat man die Flagge erreicht, kann ein Spieler sie aufnehm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C:\Dokumente und Einstellungen\User\Eigene Dateien\Schule\FH Projekt\EigenesTeamFlaggeHolen.gif"/>
          <p:cNvPicPr/>
          <p:nvPr/>
        </p:nvPicPr>
        <p:blipFill>
          <a:blip r:embed="rId1"/>
          <a:stretch/>
        </p:blipFill>
        <p:spPr>
          <a:xfrm>
            <a:off x="2928960" y="571680"/>
            <a:ext cx="3274920" cy="5889600"/>
          </a:xfrm>
          <a:prstGeom prst="rect">
            <a:avLst/>
          </a:prstGeom>
          <a:ln w="0">
            <a:noFill/>
          </a:ln>
          <a:effectLst>
            <a:outerShdw dist="139498" dir="2700000" blurRad="0" rotWithShape="0">
              <a:srgbClr val="333333">
                <a:alpha val="65000"/>
              </a:srgbClr>
            </a:outerShdw>
          </a:effectLst>
        </p:spPr>
      </p:pic>
      <p:sp>
        <p:nvSpPr>
          <p:cNvPr id="6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22" name="" descr=""/>
          <p:cNvPicPr/>
          <p:nvPr/>
        </p:nvPicPr>
        <p:blipFill>
          <a:blip r:embed="rId2"/>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2</a:t>
            </a:r>
            <a:endParaRPr b="0" lang="en-US" sz="4600" spc="-1" strike="noStrike">
              <a:solidFill>
                <a:srgbClr val="000000"/>
              </a:solidFill>
              <a:latin typeface="Franklin Gothic Book"/>
            </a:endParaRPr>
          </a:p>
        </p:txBody>
      </p:sp>
      <p:sp>
        <p:nvSpPr>
          <p:cNvPr id="624"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Flaggenträger begibt sich zurück zur eigenen Flagge.</a:t>
            </a:r>
            <a:endParaRPr b="0" lang="en-US" sz="2600" spc="-1" strike="noStrike">
              <a:solidFill>
                <a:srgbClr val="000000"/>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unkt wird gezählt  </a:t>
            </a:r>
            <a:endParaRPr b="0" lang="en-US" sz="2600" spc="-1" strike="noStrike">
              <a:solidFill>
                <a:srgbClr val="000000"/>
              </a:solidFill>
              <a:latin typeface="Arial"/>
            </a:endParaRPr>
          </a:p>
        </p:txBody>
      </p:sp>
      <p:pic>
        <p:nvPicPr>
          <p:cNvPr id="625" name="" descr=""/>
          <p:cNvPicPr/>
          <p:nvPr/>
        </p:nvPicPr>
        <p:blipFill>
          <a:blip r:embed="rId1"/>
          <a:stretch/>
        </p:blipFill>
        <p:spPr>
          <a:xfrm>
            <a:off x="4267080" y="1600200"/>
            <a:ext cx="3657600" cy="4525920"/>
          </a:xfrm>
          <a:prstGeom prst="rect">
            <a:avLst/>
          </a:prstGeom>
          <a:ln w="0">
            <a:noFill/>
          </a:ln>
        </p:spPr>
      </p:pic>
      <p:pic>
        <p:nvPicPr>
          <p:cNvPr id="626" name="Picture 2" descr="C:\Dokumente und Einstellungen\User\Eigene Dateien\Schule\FH Projekt\SpielerHatFahneRot.gif"/>
          <p:cNvPicPr/>
          <p:nvPr/>
        </p:nvPicPr>
        <p:blipFill>
          <a:blip r:embed="rId2"/>
          <a:stretch/>
        </p:blipFill>
        <p:spPr>
          <a:xfrm>
            <a:off x="4214880" y="1357200"/>
            <a:ext cx="2838240" cy="5104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Spielablauf – Teil 3</a:t>
            </a:r>
            <a:endParaRPr b="0" lang="en-US" sz="4600" spc="-1" strike="noStrike">
              <a:solidFill>
                <a:srgbClr val="000000"/>
              </a:solidFill>
              <a:latin typeface="Franklin Gothic Book"/>
            </a:endParaRPr>
          </a:p>
        </p:txBody>
      </p:sp>
      <p:sp>
        <p:nvSpPr>
          <p:cNvPr id="62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träger wird gefa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er muss in das Gefängni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freien eigener Teammitglieder</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schaffung des Schlüssel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ufsperren des Gefängnisse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chlüssel wird zurückgesetz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feil nach rechts 5"/>
          <p:cNvSpPr/>
          <p:nvPr/>
        </p:nvSpPr>
        <p:spPr>
          <a:xfrm>
            <a:off x="3500280" y="2928960"/>
            <a:ext cx="857520" cy="571320"/>
          </a:xfrm>
          <a:prstGeom prst="rightArrow">
            <a:avLst>
              <a:gd name="adj1" fmla="val 50000"/>
              <a:gd name="adj2" fmla="val 5003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2" descr="C:\Dokumente und Einstellungen\User\Eigene Dateien\Schule\FH Projekt\SpielerWirdGefangen.gif"/>
          <p:cNvPicPr/>
          <p:nvPr/>
        </p:nvPicPr>
        <p:blipFill>
          <a:blip r:embed="rId1"/>
          <a:stretch/>
        </p:blipFill>
        <p:spPr>
          <a:xfrm>
            <a:off x="571680" y="642960"/>
            <a:ext cx="2838240" cy="5103720"/>
          </a:xfrm>
          <a:prstGeom prst="rect">
            <a:avLst/>
          </a:prstGeom>
          <a:ln w="0">
            <a:noFill/>
          </a:ln>
          <a:effectLst>
            <a:outerShdw dist="139498" dir="2700000" blurRad="0" rotWithShape="0">
              <a:srgbClr val="333333">
                <a:alpha val="65000"/>
              </a:srgbClr>
            </a:outerShdw>
          </a:effectLst>
        </p:spPr>
      </p:pic>
      <p:pic>
        <p:nvPicPr>
          <p:cNvPr id="631" name="Picture 3" descr="C:\Dokumente und Einstellungen\User\Eigene Dateien\Schule\FH Projekt\SpielerGefangen.gif"/>
          <p:cNvPicPr/>
          <p:nvPr/>
        </p:nvPicPr>
        <p:blipFill>
          <a:blip r:embed="rId2"/>
          <a:stretch/>
        </p:blipFill>
        <p:spPr>
          <a:xfrm>
            <a:off x="4429080" y="714240"/>
            <a:ext cx="2838600" cy="5104080"/>
          </a:xfrm>
          <a:prstGeom prst="rect">
            <a:avLst/>
          </a:prstGeom>
          <a:ln w="0">
            <a:noFill/>
          </a:ln>
          <a:effectLst>
            <a:outerShdw dist="139498" dir="2700000" blurRad="0" rotWithShape="0">
              <a:srgbClr val="333333">
                <a:alpha val="65000"/>
              </a:srgbClr>
            </a:outerShdw>
          </a:effectLst>
        </p:spPr>
      </p:pic>
      <p:sp>
        <p:nvSpPr>
          <p:cNvPr id="6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pic>
        <p:nvPicPr>
          <p:cNvPr id="633" name="" descr=""/>
          <p:cNvPicPr/>
          <p:nvPr/>
        </p:nvPicPr>
        <p:blipFill>
          <a:blip r:embed="rId3"/>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echnische Abläufe - Clients</a:t>
            </a:r>
            <a:endParaRPr b="0" lang="en-US" sz="4600" spc="-1" strike="noStrike">
              <a:solidFill>
                <a:srgbClr val="000000"/>
              </a:solidFill>
              <a:latin typeface="Franklin Gothic Book"/>
            </a:endParaRPr>
          </a:p>
        </p:txBody>
      </p:sp>
      <p:sp>
        <p:nvSpPr>
          <p:cNvPr id="63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öffnung eines Spiels</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eröffnung am Server</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inklinken anderer Spieler</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ielname</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gf. Passw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100" spc="-1" strike="noStrike">
                <a:solidFill>
                  <a:srgbClr val="000000"/>
                </a:solidFill>
                <a:latin typeface="Franklin Gothic Book"/>
              </a:rPr>
              <a:t>Technische Abläufe - Zentraler Server</a:t>
            </a:r>
            <a:endParaRPr b="0" lang="en-US" sz="4100" spc="-1" strike="noStrike">
              <a:solidFill>
                <a:srgbClr val="000000"/>
              </a:solidFill>
              <a:latin typeface="Franklin Gothic Book"/>
            </a:endParaRPr>
          </a:p>
        </p:txBody>
      </p:sp>
      <p:sp>
        <p:nvSpPr>
          <p:cNvPr id="63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Mehrere Spiele werden ausgeführt</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le Spielerdaten werden zentral verwaltet</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me des Spielers</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ositionen der Spiel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ositionen der virtuellen Objek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Fehrenbach Franca-Sofia</a:t>
            </a:r>
            <a:endParaRPr b="0" lang="en-US" sz="4600" spc="-1" strike="noStrike">
              <a:solidFill>
                <a:srgbClr val="000000"/>
              </a:solidFill>
              <a:latin typeface="Franklin Gothic Book"/>
            </a:endParaRPr>
          </a:p>
        </p:txBody>
      </p:sp>
      <p:sp>
        <p:nvSpPr>
          <p:cNvPr id="5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8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Villach</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G/BRG Peraugymnasium</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2 Monate Sparkasse in Villach</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 Monat Sparkasse in Klagenfur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 Monat Mineraria Sacilese in Sacile (Italien)</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Technische Abläufe - GPS</a:t>
            </a:r>
            <a:endParaRPr b="0" lang="en-US" sz="4600" spc="-1" strike="noStrike">
              <a:solidFill>
                <a:srgbClr val="000000"/>
              </a:solidFill>
              <a:latin typeface="Franklin Gothic Book"/>
            </a:endParaRPr>
          </a:p>
        </p:txBody>
      </p:sp>
      <p:sp>
        <p:nvSpPr>
          <p:cNvPr id="63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estlegung eines dynamischen Spielfeldes per Eckpunktkoordina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Übermittlung der Positionsdaten an den Server</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itel 1" descr=""/>
          <p:cNvPicPr/>
          <p:nvPr/>
        </p:nvPicPr>
        <p:blipFill>
          <a:blip r:embed="rId1"/>
          <a:stretch/>
        </p:blipFill>
        <p:spPr>
          <a:xfrm>
            <a:off x="-36360" y="2468520"/>
            <a:ext cx="8388360" cy="215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Ortoff Martin</a:t>
            </a:r>
            <a:endParaRPr b="0" lang="en-US" sz="4600" spc="-1" strike="noStrike">
              <a:solidFill>
                <a:srgbClr val="000000"/>
              </a:solidFill>
              <a:latin typeface="Franklin Gothic Book"/>
            </a:endParaRPr>
          </a:p>
        </p:txBody>
      </p:sp>
      <p:sp>
        <p:nvSpPr>
          <p:cNvPr id="5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ter: 17 Jahre</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ohnort: Treff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bschlü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S Gegendtal</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rfahrun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Wochen Praktikum bei Infine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as Spiel – Fakten</a:t>
            </a:r>
            <a:endParaRPr b="0" lang="en-US" sz="4600" spc="-1" strike="noStrike">
              <a:solidFill>
                <a:srgbClr val="000000"/>
              </a:solidFill>
              <a:latin typeface="Franklin Gothic Book"/>
            </a:endParaRPr>
          </a:p>
        </p:txBody>
      </p:sp>
      <p:sp>
        <p:nvSpPr>
          <p:cNvPr id="5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liebtes Kinderspiel</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bination von Bewegung und Spielspaß</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2 Teams mit mindestens 4 Spielern</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irtuelle Objekte</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ynamisches Spielfeld</a:t>
            </a: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as Spielfeld</a:t>
            </a:r>
            <a:endParaRPr b="0" lang="en-US" sz="4600" spc="-1" strike="noStrike">
              <a:solidFill>
                <a:srgbClr val="000000"/>
              </a:solidFill>
              <a:latin typeface="Franklin Gothic Book"/>
            </a:endParaRPr>
          </a:p>
        </p:txBody>
      </p:sp>
      <p:sp>
        <p:nvSpPr>
          <p:cNvPr id="5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Zwei Hälften</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aster</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Zoombares Spielfeld</a:t>
            </a: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ie virtuellen Objekte</a:t>
            </a:r>
            <a:endParaRPr b="0" lang="en-US" sz="4600" spc="-1" strike="noStrike">
              <a:solidFill>
                <a:srgbClr val="000000"/>
              </a:solidFill>
              <a:latin typeface="Franklin Gothic Book"/>
            </a:endParaRPr>
          </a:p>
        </p:txBody>
      </p:sp>
      <p:sp>
        <p:nvSpPr>
          <p:cNvPr id="57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Flaggen</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e Flagge pro Team</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Gefängnisse</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Gefängnis pro Team</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chlüssel</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Schlüssel für alle</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Der Spieler</a:t>
            </a:r>
            <a:endParaRPr b="0" lang="en-US" sz="4600" spc="-1" strike="noStrike">
              <a:solidFill>
                <a:srgbClr val="000000"/>
              </a:solidFill>
              <a:latin typeface="Franklin Gothic Book"/>
            </a:endParaRPr>
          </a:p>
        </p:txBody>
      </p:sp>
      <p:sp>
        <p:nvSpPr>
          <p:cNvPr id="58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arstellung</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n sich selbst</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n anderen Teammitgliedern</a:t>
            </a: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Rollen im Spiel</a:t>
            </a:r>
            <a:endParaRPr b="0" lang="en-US" sz="30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efangen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laggenträg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änger</a:t>
            </a:r>
            <a:endParaRPr b="0" lang="en-US" sz="2600" spc="-1" strike="noStrike">
              <a:solidFill>
                <a:srgbClr val="000000"/>
              </a:solidFill>
              <a:latin typeface="Arial"/>
            </a:endParaRPr>
          </a:p>
          <a:p>
            <a:pPr lvl="1" marL="722160" indent="-272880">
              <a:spcBef>
                <a:spcPts val="649"/>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000000"/>
                </a:solidFill>
                <a:latin typeface="Franklin Gothic Book"/>
              </a:rPr>
              <a:t>Ziel des Spiels</a:t>
            </a:r>
            <a:endParaRPr b="0" lang="en-US" sz="4600" spc="-1" strike="noStrike">
              <a:solidFill>
                <a:srgbClr val="000000"/>
              </a:solidFill>
              <a:latin typeface="Franklin Gothic Book"/>
            </a:endParaRPr>
          </a:p>
        </p:txBody>
      </p:sp>
      <p:sp>
        <p:nvSpPr>
          <p:cNvPr id="58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operation mit Teammitgliedern</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reimaliges erobern der gegnerischen Flagge</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freien der gefangenen Teammitglieder</a:t>
            </a: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0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kortieren des Flaggenträgers in die Teameigene Flaggenz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4:24:38Z</dcterms:created>
  <dc:creator> </dc:creator>
  <dc:description/>
  <dc:language>en-US</dc:language>
  <cp:lastModifiedBy> </cp:lastModifiedBy>
  <dcterms:modified xsi:type="dcterms:W3CDTF">2008-12-19T07:44:44Z</dcterms:modified>
  <cp:revision>103</cp:revision>
  <dc:subject/>
  <dc:title>Capture the flag</dc:title>
</cp:coreProperties>
</file>